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DC5-2E57-43BB-8976-6155F63A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897-22E5-48FF-A0B5-927B7D4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6D2-7931-47B3-8895-7CCD4701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AC8-A5A4-4941-B9B4-70C621C1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2546-C8BE-4E35-86BE-0D6E21FE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049-A76D-487C-9DCB-E04229E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D2D9-2D0C-4A9F-9214-406D6126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FCFF-3AAB-440F-9FEE-4E3D07FE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E5A6-4638-42B5-AF61-770FE2D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A59C-F5CE-4285-BFF4-A805FAFF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2B2F-E915-4E3B-A683-C69514F8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9D9-6F70-4E3A-AC89-1C43DB5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F846-4700-47C1-9C8D-E7D050B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A1F0-CA6F-4F22-B461-591165E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48C-A4C6-4A6F-9C7E-B44485F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2BA-C260-4464-B726-ABD4DB82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6E22-EF23-41C2-ACC9-DB4D9A22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11A-D96C-4A7D-9D79-57572DBC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EB3-26D9-4921-B12E-369287E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5B9-23E8-4C3A-A96D-A7B943E5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20F-FDD2-4FE0-9EDA-9E44D88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5A1-366C-4815-96CA-FF8ACE0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DF1-3AFA-485E-AEE7-C1116E4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75E-5534-4E7A-BB24-12ABAC5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48EE-FED7-4AAC-8A38-4B191223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430B-2B5C-468E-8A6F-21E09EEF7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r Goals for Today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Content Area Literacy, Reflect on Class and Discuss Next Steps, Complete Course 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t Topic #3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tent Area Litera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22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is this a Hot Topic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sconception that English Teachers are the only ones responsible for reading and wri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ur expertise in effective teaching applies to all discipli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 will be resources for Content Area teacher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we’re using kids’ desire to be members of the club in order to engage them, we must think about what it means to be a member of the club of historians, scientists, or mathematicians” (Wilhelm 154)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pening the Conversation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troducing the Correspondence Concep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ll in the blanks for the following Stem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 be a scholar of ______________ is to ________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 be a student of _________ requires students to ________________ about ____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need to study _________ because _______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chose to teach _________ because I feel it helps students 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l Questions for Consid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literacy?  What does it mean to be “literate”?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 is responsible for teaching literacy skill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our next steps as educators?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ri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ebration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4:46:22Z</dcterms:created>
  <dc:creator>BSD</dc:creator>
  <dc:description/>
  <dc:language>en-US</dc:language>
  <cp:lastModifiedBy>Phil Bear</cp:lastModifiedBy>
  <dcterms:modified xsi:type="dcterms:W3CDTF">2011-05-05T21:50:53Z</dcterms:modified>
  <cp:revision>10</cp:revision>
  <dc:subject/>
  <dc:title>Our Goal for Today:</dc:title>
</cp:coreProperties>
</file>